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382-8B60-4CD6-B754-C25A7E7D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41F-6A5D-46A4-AC5D-4FC7577E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4FB41-FD27-467F-B071-431E325E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75507-98ED-48F9-888B-252F6CCB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F5D17-584E-4480-BF89-455F0021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E286C-14EC-4DC0-8F39-6CDAA935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05E82-57FC-4418-82C1-1037A9D8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33A21-0588-463F-9C73-0092E58F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1E796-7B1F-4F0C-B58B-AAB05FB7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0B7A6-7B6C-4065-AC92-DF629B2C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23412-6D1E-4984-876F-47055273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4D8F2-0191-42EC-9F85-6F820F94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999-6266-413A-9060-8B99AAE7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D0338-39E7-401B-AB22-AE758E3D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77379-D9AF-410A-A588-C82F796D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D2D79-35B5-4566-9882-2DF380B9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BE8EF-B7B4-4389-9B12-2E39FCE7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DADF2-0081-42CC-8B65-5CD549DD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43CDA7-FE5E-4E93-95EF-FC4EB3E9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BADE1-0854-4987-9450-55751043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20504-40F3-42FB-A0A4-FED8F5F2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07780-3204-45F5-9881-493BCE32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D3986-8825-4156-B475-E898E032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562-F468-4CE2-9C2F-518B7E3B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23F9E-763C-46B1-B9F8-406260E7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E69D6-218E-440E-90E8-C1C20E6D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8EFCE-732C-4E5A-B9DB-4536E06A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78F87-9176-44A5-8AC3-1D138BED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46814-0435-4356-AF08-18F37E20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7B88E-E2FE-4DCD-9B94-F4E17172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C250E-97D6-4E51-99D3-EEE9B3ED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A1487-2BAC-4BA5-9D68-BC52D225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EAFAB-FE1B-42A0-84C0-C4662207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5E715-AE1A-4D1C-B2A5-77031AF2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4C81-71ED-4061-AA02-C1767CA3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ECA1B-41F0-47AF-8B4F-7AED8187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104CF-6779-4D64-BED4-595EB019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868D7-F847-4344-AAF8-592EEB63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38951-15B1-4172-A310-93250966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5A390-C721-4C2D-8F56-9A0DF8CC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715C6-4E9D-4AE6-8C5D-14F7B107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9EA6E-9CE2-4AFC-98F8-C2AEAFE6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E80D8-3501-43B1-BC8A-38C3D158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79819-B459-4180-AA0E-8850ACB8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F0DF7-100F-4F35-BF0C-A4C9E646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6C8C-ECD7-4FE0-B853-22E2BD37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2EBCC-DF85-46FD-9AEE-47B29197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B4AF4-4385-45D1-9D75-694074DB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F972E-6D03-482A-BA9B-E29A5AE6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F538E-E333-4D18-974C-B51358E7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5ECA3-8343-4F03-9ECB-BA3C8E47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D659D-A8A3-41DB-81CB-2783C945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C2087-363C-4129-838D-25E4ABB8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9B6493-E50E-48BC-A49B-97475E59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758B5-DA17-43BB-975B-02F7E241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70DA3-7431-4DF1-93CC-0B783DBB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5941-CE58-4715-806B-F3679C74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93F09-89EE-4C07-9324-081DF4DD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CF70B-C26E-4C87-AC13-7F89F97F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01263-6CC9-4C9A-9EBD-75B9DF05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CEBFB-8141-4F53-B81D-C34AF9F5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62798-AB70-4CAA-8A1A-D99D7441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082C9-3028-4D9E-A947-89E05244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EE2FB-8C6B-471D-BE25-62BA9E16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51D9B7-E673-4644-8F11-512DD7A7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BA706D-FC14-40C9-AD9D-0FC95CC8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1A966-826B-4A27-9CAB-4DE58921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0C81-E997-4F74-8171-CF0E4D68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6CE3F-EAB9-4841-9D83-31B0AF00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4FFDA-40B4-4750-B936-AEA4FC71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72240-1AAF-4FAA-BF7A-FC4ACC3E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155F4-E90A-402B-BC25-145AC48C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4528B-A074-4660-BC65-3C6ADD9F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D7BCB-6D70-4C90-8D9D-D755D8C4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D58D3-C69D-4345-A432-0AB9F63D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4CAFC-D77E-48B2-8108-2B556006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C7DC98-9E4C-4803-BF98-120D027D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5720B-4A78-4A91-8AC0-E6D24C2A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E984-28EF-4F62-93C3-7B85BB45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5FCC4-5B3A-4808-861C-711D3EE1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D6EE2-5242-4C45-885D-8DAAD982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1EF24-5027-45EC-B7CD-3DB1ECD9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7091E7-26E4-4D56-9640-19A4410F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222D46-EE47-402A-8F8E-92C405CE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E9EAB-9B1D-4D05-9904-9A36D475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55C0A3-4F1F-4ED9-BE61-B9BCAE0C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804B2-679B-470A-9A21-0BC2D348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BFB03-94B8-4F2A-9D04-AFAC73FF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F3B8C2-F2A7-4C03-8EF1-C87C8D60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1AD5-464D-47A5-9603-8CBFC21D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CDBDF2-708E-4384-98F0-8CFB394C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9DBB1A-5F0D-4373-9A9F-0CBE9635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4504A7-5F4B-46EF-A0EB-7E0008F8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7F1ACC-86C1-484C-9D8E-9ADE3D7A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F862A-9027-407C-99E5-2D3A3C41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3BC0D-3488-4732-BFC2-A58360C7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DB2A6-134A-4DD3-B3C5-651C482C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30A97-138B-480E-86E1-0EA5CD6A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F0637-7D78-4205-BCB6-128AD7BD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BE2EF-E8B2-419E-BFE9-C17D565A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2663-9EE7-47C3-86BC-C351DFC4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8B5BBB-316E-4CFF-B7AB-F682014A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19946-7206-47AD-9CD3-A3A1B678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3C9A3-C0F6-410F-A5A9-BF85281D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9271F9-ABC8-4774-A5AE-552365AE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BFAD07-1C67-4199-89AC-09095741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CF48A-A2B0-4C71-A50E-39B9F96C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A82089-34CC-4629-8BB4-36EC2E17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C8CAA-DF92-4E00-91E8-17305DCA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8DB5F9-00BF-4A80-AED1-3999C48C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B1C94-CED3-422A-AA1F-5BCE59E4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7B0-A531-4730-A5D7-590FA9A8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D9BF-6D28-4391-BF31-5A1EF748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5CFC0-79DC-4738-ABCF-2143B67E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2898A9-1CEC-44CA-85BD-26FF9EB0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90454C-3221-465A-88E9-5AD2D42E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7AB159-F565-4083-83DC-9CAC34A6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CEC9D8-035B-488C-96F4-8E361681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86F7A-F6A7-44C8-A974-6FB644E4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E4BB4C-A22E-4562-9601-65EF06AC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570B7C-8BE9-4005-895C-C616F55B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2227FA-9236-4675-9ADA-4CFEDC7F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ACDAC9-1CE1-44F8-A4D3-48B8A13E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AE53-248C-4BBC-A6BC-C4A7EF10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64EEA2-3AE7-4D7E-8260-0484F8BD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231591-FFAB-4DF8-A464-A8B2CF74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D8581-ABB4-46DE-B7D9-26B52600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D8C89-1B6D-46E7-ABD9-55775715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7E4969-3295-4544-9FB4-6CCB2BEC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07A5C3-17BC-46F9-8007-39978B7D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FC790-AC10-446F-8EE2-D372EC01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8F977A-B9E4-4ADD-809E-E37A4DC9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98F71E-67AC-405B-8AF5-0094D458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D0D548-F1E2-4DC5-89F4-03FF8AFE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266A-F3A8-42B1-8CE9-24285E81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A1E65B-98DF-4523-8203-87658A65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574175-EC1D-45FC-880F-120A5275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57768F-7453-4F08-90CE-87D9873A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C9E534-830C-45CE-AF29-9E2E4C3E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401986-0644-4EF9-A201-848D2CCA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1F9B62-E5A4-4462-99BE-0B158B58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C0F28E-A974-4993-B87C-1992CD3C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679D39-1EF3-4EC1-A4DA-FC8948D2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5EFA0A-A8FD-4FFA-8669-58D617FF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CED979-B1F8-4D18-8EB0-F50D1EAC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12F7-BA1C-4F63-BC5A-22E69EED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3F7B6-AC09-4487-8EA9-CA475FCC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48C29B-A263-4610-904A-C2257164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132644-6DAD-4073-BFFA-870C3669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7FA186-D5E5-4734-B134-1D5C9648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C5465D-A162-4AD3-B6BD-3D477809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B6B1EA-EF0B-401B-8DAC-D626236E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1DD7E3-BD28-4B53-959B-B1D14F5A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495F88-BFF7-48EE-A40F-65C1B914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5837C3-959A-4D6E-93B6-0F20ACCE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3BD7DD-D7FD-45D7-A949-5A013886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4CB3-87E3-4458-A5CF-9086DDF2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3DD854-7526-41CA-BF30-101B11F6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2F9D18-014E-4F09-A250-90F4B7A6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60A208-0C28-40B9-AFB1-F547F72D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9DD709-B3E1-453F-BA09-77D56FFE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834202-DF68-41A2-919A-29404F1D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A0A37C-31C8-4B8D-AD63-CFB68295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5AF518-5EB5-4C0A-9013-98DEDDEE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3BF82C-D93C-42C0-B9C2-D410E6CE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54DA57-F558-4455-9992-D8F579A6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DA3E43-B376-487B-97D0-CDDE63A4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9AD29-6364-4C2E-B4BF-32359D42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9BDCC5-C924-4403-8434-0B434194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C0F4E2-E5F1-45C7-8F05-6A0DF7C6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03110A-4B79-47A1-85D1-A0D11E38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97691-C61C-48F2-BC7B-C666E155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F224-8991-412F-BF28-CE7C3D14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1B457-98AF-4329-BFE1-481EA0F7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AA3F6-0668-4980-8997-D818E5DD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17E-8C66-4327-8AC7-E4FA60ED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73172-8F86-4EE3-934F-32F8BF4C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41430-05A6-444D-A810-A5888A0C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79F4-72CA-4307-9D72-014F57C3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FC877-431F-47AC-9B96-A237AC8D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65594-3CF5-48F6-BE90-AB43CE66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2D434-7E7D-4701-AC11-C8E7A6FE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8746-17E2-4198-ABBC-A3E7F406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98113-3BF6-4875-8E31-DF3C7BCE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B3092-3142-4338-B5F0-F0D40501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28C78-C119-4B10-B900-7DDEFE20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7B0B-0BEE-4F19-BF3C-7740270F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B5457-9FB0-4F0B-8D3B-8A58174F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CDEB3-538B-41AC-B0AD-12063475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0B3D5-1F44-4AF7-AF60-57F20A16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ECE21-6330-4CB4-A579-10D4F32B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CEB5C-0705-4AC8-98D2-3D2264E9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DC2FF-4459-4043-919B-DDA75ACC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10D1A-BAAF-4F55-886B-0815920E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DA012-C3EC-4E3A-BDE9-075198A5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697A4-BAE8-459A-B7B3-FF467E79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BE594-9CE2-4BF0-8AC7-C5FAB31E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3ADE-4C85-4D77-B96A-53779F6C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A3232-4E83-482F-A4A6-30B1429D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D3B3C-C361-452F-99A1-06B70AD8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102D7-1C6D-42BA-ADEB-6EC4B65B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378E6-399E-4725-B9DD-6F2EC239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68D20-D118-478C-B32F-0B421A4A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C936D-EA89-436D-9D02-8CE7F420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9301A-AE23-450C-B5CA-06C04A0F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3DD4C-4B57-42C5-96D9-4A6B83F7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4F1D3-CEC7-461E-AAF3-683DB77C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11D08-9EA6-4D8D-B8D0-12114F9E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B1C-7862-4790-A626-46C1FA69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74114-FF2C-4F3A-A1C4-73F84593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D253D-4DA1-4F2B-8948-D85E768B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4970B-3E87-4AAF-A751-70834B2C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9F8AD-D3E8-4754-A561-EDC8ADB6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36D0A-9C2B-411B-90D3-21B5AE79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1958E-E4B7-4A44-84C7-4F9562BB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E27B8-1401-4FF0-946F-DEB5B850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CDEA4-DBD6-4DF7-B678-3A59E699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371C2-0040-4CB1-809A-873A003D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2FDBD-49D8-480C-8510-3BC5A967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E80-55D3-42BF-8060-C5A571E7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BED17-6758-4DA7-A171-69E6E3D6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0FD8F-4434-4F0F-852B-E0ACE97E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38455-2BC1-40A6-A69C-41BC3A52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15E0C-F60D-421E-BE64-6A0ACF96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0DB86-B64C-48BA-9459-CB29E233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46C0E-4CBC-4A13-9A1C-7DE5F4F8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24781-AF4C-40DF-A843-D81CBE99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1476B-8119-4618-8737-A2185EA7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235F9-4537-4702-BF5F-55BEE48B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1787A-009D-4D5A-98E7-58C6980C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30D-24E9-455E-B88F-785F1AD9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7B898-015A-4387-964A-D95F81F6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1E10F-85E6-4D3C-A372-173BD9FC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951C8-9D63-43CB-8931-5AE967D1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5726B-C76E-435A-AAF0-515AEB00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02C5A-FD3B-486A-A087-707FDE7B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879AA-D2CE-4328-8C01-226D1B6D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8F41C-7554-409A-900F-C95F6CE0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42F16-9C79-422A-BB75-D0DC1774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DD494-D143-4843-B11D-B599E8F4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83AAC-276E-4BEE-A6D4-663DBC7A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7D5-5D30-458E-B506-40E89900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6F303-05F3-4AA7-994F-BF11794C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B3F83-0D90-437E-B9F1-4D144054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20148-33B1-4939-8595-34BD1AAE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A1AB7-3D23-4090-9EDB-985BCDCA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BB99C-0143-4C70-BDE3-560D3CF4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A2A91-9E9A-46F9-A898-8F721802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5EA2D-3F40-46C2-B4C4-1E1692BB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EC5F8-0409-4924-AB29-A62A07F3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3101A-DA15-4C8A-80EE-A70394AB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116C2-EC5C-4481-BABC-60E6084F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12A2-52ED-4415-89DF-601B7075E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9431-D08F-4D81-AA17-FAA018B715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61BA-04C1-402D-97AD-628E26F798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F151-E6E3-4D74-91AB-B68609A5D7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647F-D511-42BE-B661-DCEC4D012B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3E09-29B3-4DEE-AD30-BE14B18D50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968A-657C-4EA3-A358-F5D1774BCE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BA30-68A3-417E-AFC9-BDAA1D804E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A4D6-710D-4128-A3FD-54EA60E640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8E4E-2027-47C0-84CE-7C7BCFFE2A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79C7-F385-4B88-9E99-E5C963F89F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858F-7B7E-42B6-AD20-D2010A2E81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B00F-24B5-4502-9188-1492149A8E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574D-DDD7-4E13-BD39-15A9CA46AD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727E-BA49-4718-B7FE-15751798CD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4E37-FBE7-4D68-A998-3340F7E605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FF24-DA5B-4F99-8CA3-F78CAA5D56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C231-7D68-4AD9-8D23-021090C360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E06D-CF59-4A6E-BE37-862B8E9B65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FB92-9392-4A93-9AC1-AB917DA84C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51C8-C305-44D5-A244-3292EFFC28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06FB-C198-453E-88D8-505EE27BD1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B78D-4EA3-49CF-85B8-27ADC33D81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6FBA-98A1-4EAE-9DD8-7DF653EC2D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0AC7-C64D-4862-ABBC-B968C0E005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44F0-41E0-44ED-BF72-18BC8B7559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4110-75A2-449A-8AD7-C0A18B062D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52B7-A21C-4793-A44E-0DAE659A2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9919-8F37-4C80-9B01-71BA1043C0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FFAB-FD9D-4386-8FC2-48A4D0C6DF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49D9-4E33-4050-9C5A-174FB2A0CB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2F08-3242-4484-BBF5-4BF7F07195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4CAD-8DF5-4FCE-86EF-D11B6C1068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F24F-A61A-42AD-B697-F8F8596195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9EB9-A582-4F99-8CF4-5FD97E4CB6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BF3C-B7F8-4959-90C6-A08B1718A0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F46A-8794-4B0A-BE13-8DF2844D15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7B81-9498-4F9F-B01E-EF8D7DF27D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F99A-1F9F-4AF3-8450-4937121B59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3539-F574-43B8-90B1-D06428FC9C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96920" y="3168720"/>
            <a:ext cx="87501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" descr=""/>
          <p:cNvPicPr/>
          <p:nvPr/>
        </p:nvPicPr>
        <p:blipFill>
          <a:blip r:embed="rId1"/>
          <a:stretch/>
        </p:blipFill>
        <p:spPr>
          <a:xfrm>
            <a:off x="92160" y="971640"/>
            <a:ext cx="8961480" cy="54766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505080" cy="4489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8101080" y="1887480"/>
            <a:ext cx="104292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1258920" y="2924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5"/>
          <a:stretch/>
        </p:blipFill>
        <p:spPr>
          <a:xfrm>
            <a:off x="7164360" y="3976560"/>
            <a:ext cx="1728720" cy="449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6"/>
          <a:stretch/>
        </p:blipFill>
        <p:spPr>
          <a:xfrm>
            <a:off x="1258920" y="4797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7"/>
          <a:stretch/>
        </p:blipFill>
        <p:spPr>
          <a:xfrm>
            <a:off x="7415280" y="5921280"/>
            <a:ext cx="1728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9" name="图片 1" descr=""/>
          <p:cNvPicPr/>
          <p:nvPr/>
        </p:nvPicPr>
        <p:blipFill>
          <a:blip r:embed="rId1"/>
          <a:stretch/>
        </p:blipFill>
        <p:spPr>
          <a:xfrm>
            <a:off x="457200" y="1604880"/>
            <a:ext cx="8229600" cy="36482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3"/>
          <a:stretch/>
        </p:blipFill>
        <p:spPr>
          <a:xfrm>
            <a:off x="6948360" y="2765520"/>
            <a:ext cx="14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4"/>
          <a:stretch/>
        </p:blipFill>
        <p:spPr>
          <a:xfrm>
            <a:off x="755640" y="3573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5"/>
          <a:stretch/>
        </p:blipFill>
        <p:spPr>
          <a:xfrm>
            <a:off x="7236000" y="4695840"/>
            <a:ext cx="1439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57240" y="857160"/>
            <a:ext cx="9029520" cy="58276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87280" y="1700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87280" y="42498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380880" y="922320"/>
            <a:ext cx="8382240" cy="55990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826920" y="351468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433440" y="2143080"/>
            <a:ext cx="8275680" cy="2571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238400" y="868320"/>
            <a:ext cx="6667200" cy="5829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3276720" y="29671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3348000" y="4264200"/>
            <a:ext cx="504720" cy="4489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3276720" y="55468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719280" y="914400"/>
            <a:ext cx="7704000" cy="50292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2124000" y="93672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2" descr=""/>
          <p:cNvPicPr/>
          <p:nvPr/>
        </p:nvPicPr>
        <p:blipFill>
          <a:blip r:embed="rId1"/>
          <a:stretch/>
        </p:blipFill>
        <p:spPr>
          <a:xfrm>
            <a:off x="95400" y="1504800"/>
            <a:ext cx="8953200" cy="38484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1547640" y="3933720"/>
            <a:ext cx="107964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4067280" y="3948120"/>
            <a:ext cx="2881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423720" y="890640"/>
            <a:ext cx="8294760" cy="50767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1187280" y="2389320"/>
            <a:ext cx="14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3780000" y="2406600"/>
            <a:ext cx="403200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1908000" y="5430960"/>
            <a:ext cx="2664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476280" y="857160"/>
            <a:ext cx="8191440" cy="51436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1187280" y="2335320"/>
            <a:ext cx="136872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5724360" y="2349360"/>
            <a:ext cx="3095640" cy="449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3276720" y="5388120"/>
            <a:ext cx="29509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50:13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